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4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EB66-D1C3-4EE4-9D64-88DBA2432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In many countries, such as the United States, Japan, and much of Europ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.the growth rate has slow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These countries have completed the </a:t>
            </a:r>
            <a:r>
              <a:rPr b="1" i="1" lang="en-US" sz="1200" spc="-1" strike="noStrike">
                <a:solidFill>
                  <a:srgbClr val="008000"/>
                </a:solidFill>
                <a:latin typeface="Calibri"/>
              </a:rPr>
              <a:t>demographic transition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a term used to describe a dramatic change in birth and death rates. 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As a society becomes more modern, there is a higher educational level.  As the standard of living increases, families have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fewer children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The demographic transition is said to be complete w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the birthrate falls to meet the death rate, and the population stops gr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CAF7-1C2E-491A-84BA-8270C04188B5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Each bar in the diagram represents individuals within a 5-year range.  Males are shown to the left of the center line.  Females are shown to the right of the cent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55F-00CC-47DA-85E6-02E719099078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Each bar in the diagram represents individuals within a 5-year range.  Males are shown to the left of the center line.  Females are shown to the right of the cent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FDD-46C4-4A00-BC5D-038A6C7390F9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BD96-CA73-43FB-8759-F95FF1B6DA73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B1B6-F84F-4851-A61B-DDA812542312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1702-13FE-41E3-A749-00302FE5E9F7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002D-A8F0-4814-9D4A-97D384D314A0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count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group is the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group is the small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is population growing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9261-B2C3-48BA-87BA-8563E9934B99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E417-3AFC-4A7F-A67A-C034DF52A41E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8B51-9F74-4034-AEFD-620D02E8A1CB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9FBC-E966-40D5-A544-45E0BA1CB8CE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E187-D4F0-462A-8CC5-A4CD39E554A8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85A1-1510-4550-8C69-C9A3BD94B918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0BE-FF40-41AE-BF13-D0F1BE80AC35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E5D-8FE7-4022-9BDF-01E6D2F0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B06-23B4-456F-82A3-3E540DF9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571-7DC0-41BA-9B40-3AE315D8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797-50C5-4C19-9468-8399A11C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721F-2F46-4A3A-94EA-F14D5E92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DB66-FA0F-4D9F-BCD3-35EC36FD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7B92-FBEA-47EE-BA4C-7A0E2CD7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62E4-0C1D-4CE6-B8E6-7912DEE9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F09E-30A0-4D95-BC0A-F5AF967E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A3A5-4B40-4E4C-83B3-9239BAE0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695B-9884-409B-87A2-5A0550CE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002-48C1-4726-8217-624F1704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7AA0-58FB-4230-A784-957EC8C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9F33-E949-49D9-A9D0-1C44D235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417D-F394-40B0-B4BE-FA75300E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C6A1-F523-4C35-87F8-BE2F4528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1A5C-BE19-4117-8C11-162044EF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BAFC-C4F8-4EE6-A2FD-41A671F8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E76B-AC86-4E69-9251-51222A5E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D2CF-6FB7-4137-886F-CF2002F3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839B-5CB1-4CBC-AA89-89D3ED62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73E2-012E-4DF9-9446-F27B5EB8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310-41C0-42FC-BC5A-0B77D0A0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1ADB-75FD-4091-A802-84BC33B0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31D7C-BAAA-4E1F-8BA0-44C164DA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3783-DB5A-42F8-884F-6E74CAC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D7C0-2492-41C9-AD8B-C2323951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ADD2-1366-4849-B71A-D48EF9C5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5179-FBCC-45D8-9239-65DBF49F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B077-12AD-42B3-B911-8B113BF7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BF47E-1485-4135-AC41-CE78BA70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8088-DE23-49B4-88E7-4F37B556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316E-BB4B-46D0-9065-C3AB0CF5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78E-246F-466B-8F36-8A797483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869A0-BD8C-49DD-9470-33B24016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0C92-DE2B-4254-AA4B-5AE081D0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DAD2-0B46-46B6-BEB5-EDFB24F4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06F31-BF78-4F83-8A99-E285E214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D1C0-CB76-4C7E-A83A-BD256F1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2FAB-07D6-4D8B-AD80-F1897E2A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36E5-F870-4487-803D-01B95FCE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D7D5A-999B-4293-963F-2A35337F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F2CC-11B4-4827-9F9F-E8C17199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FD6F6-11A1-42EE-A68B-8C66B936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CEF-735A-443D-AC18-D8E539C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324BC-240F-4FD6-868C-89C61491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A896E-FAD0-41D0-A1E1-2945EE11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9E0EA-7220-441A-97E3-565A768D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0CA8-F1CC-4C0A-9A75-8CFF5332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024A-6863-4ACC-9E90-BE727D01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3880-B0B7-4293-B218-5F879A0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8F1A-9456-4F1B-89E9-40F071E4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88CD3-2A80-4599-90D0-4C6D146C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2EDA5-79E0-4FB9-9A1C-E91A6382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A16A0-9639-4236-ABC5-01265F7D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49B-489C-402E-8437-857E8877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AC17-CCAB-4393-A058-885CD019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7AB3A-1C7D-4BE7-8078-DA772D54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F5976-F08E-4F90-9A48-ACE1FB8F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CBC4-CB46-4A8C-8337-F1436272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D279-780D-4701-83A9-3552102C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7D2E3-4A71-419F-B2E3-ECB2AF35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3302-0EEE-4651-997D-D5316DD2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88CE0-E852-4723-BA27-F208EB15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E14E-1384-4E3F-ACD2-F2F6B72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34B03-6A33-40F3-856F-3E002B4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F39-3817-4CBA-8150-CC4AEE55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B5660-0FFD-4EF6-966D-26ACBA2A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43446-1547-49C9-99D7-35A33936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69DBB-DD9E-4D59-BE20-6875F8EE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BB89-D9EA-4B2C-92AF-EF4C6731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49C24-8D5A-4693-B85E-ACC293BB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7A2B8-25C7-4D03-98B6-3381511F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2FCF-EB9F-4516-872F-C95F5BA1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3E99A-02FA-4964-B5C2-29F828EE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798ED-23A0-40A0-8F9C-D4739207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AF144-F670-46F3-BE98-A08EF344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457-CC64-4274-AF5C-16CAA42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6F56E-1612-4DFB-9D5B-44E005DF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73C43-6EC1-4936-89CB-23BCB3F4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7F5DE-8FEC-4B34-98C9-9FFDD6A6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FDE23-19C9-4D55-BCEB-BF150EA9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05A27-3F97-43B5-8C15-4281FE94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D538F-4FBB-4FAB-B06B-6C76AB18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36684-C85A-443D-8B34-861C1373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3FAA6-8671-43FA-BA83-4270BD72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1982D-563D-4F42-B2AE-EA3713A3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5A140-20E5-4AF7-91C8-F4B7D3EB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7AF-B959-4D43-B8C1-7B087F3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C2D1E-6C64-4476-B24E-55E7D32D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02965-4051-4968-AC00-49A072A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9E6CF-F587-4F02-96FE-E9170DC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A9B89-CF6D-4F03-8419-D11ED5F0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34912-7332-4B2E-A147-FE0F7674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0D9A1-59DB-4CAF-8F24-7D9729E2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EBD2-911C-47AC-A0A1-B36DA079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34B4-E5DC-422D-B622-5293CB682D1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3C5D-6126-4C3A-B6D0-6113EC260D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B712-4958-4F06-BD92-610FECB5C7D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AE24-3880-44CB-A0A7-CA5F333CD3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F32-3BA7-45C3-BF9C-B0E32C67527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FDA7-583A-40DF-AFE8-2EA86CF618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E6D-EE80-4F5A-8392-1FDBBE25BDB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FF28-AAAA-4EE2-82BD-AD13A0A813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4BC8-471A-4C67-8EBD-420DCCCAA3E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40FF-FBA9-4BB1-8CE7-DC5F426092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6C2B-9658-4E6B-BA48-0ACA747713F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2D7E-0518-4BA7-A8E7-1943FF44F6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3561-6FD9-48CF-B1A4-3E323932EBC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2D28-8C41-4E80-B814-1AC19AA099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7C8D-FE9C-4DFE-AF9C-BC5A14282A2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B489-86B2-4530-A31E-FFF1FD2429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78000" y="3651120"/>
            <a:ext cx="85467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penguins.jpg"/>
          <p:cNvPicPr/>
          <p:nvPr/>
        </p:nvPicPr>
        <p:blipFill>
          <a:blip r:embed="rId2"/>
          <a:stretch/>
        </p:blipFill>
        <p:spPr>
          <a:xfrm>
            <a:off x="152280" y="152280"/>
            <a:ext cx="4451400" cy="2971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wildflower.jpg"/>
          <p:cNvPicPr/>
          <p:nvPr/>
        </p:nvPicPr>
        <p:blipFill>
          <a:blip r:embed="rId3"/>
          <a:stretch/>
        </p:blipFill>
        <p:spPr>
          <a:xfrm>
            <a:off x="4800600" y="152280"/>
            <a:ext cx="4192560" cy="2971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0" y="6550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Lucida Sans Unicode"/>
              </a:rPr>
              <a:t>© Amy Brown (Science Stuff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400px-World_population.svg.png"/>
          <p:cNvPicPr/>
          <p:nvPr/>
        </p:nvPicPr>
        <p:blipFill>
          <a:blip r:embed="rId1"/>
          <a:stretch/>
        </p:blipFill>
        <p:spPr>
          <a:xfrm>
            <a:off x="-76320" y="609480"/>
            <a:ext cx="9495000" cy="4345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3200400" y="5257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171e"/>
                </a:solidFill>
                <a:latin typeface="Lucida Sans Unicode"/>
              </a:rPr>
              <a:t>This is a map of the world's countries by total population, with darker shading indicating larger populatio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762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umans 2.jpg"/>
          <p:cNvPicPr/>
          <p:nvPr/>
        </p:nvPicPr>
        <p:blipFill>
          <a:blip r:embed="rId2"/>
          <a:stretch/>
        </p:blipFill>
        <p:spPr>
          <a:xfrm>
            <a:off x="304920" y="914400"/>
            <a:ext cx="4346280" cy="28954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4800600" y="762120"/>
            <a:ext cx="403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d1d3"/>
                </a:solidFill>
                <a:latin typeface="Lucida Sans Unicode"/>
                <a:ea typeface="MS PGothic"/>
              </a:rPr>
              <a:t>The demographic transition has occurred in only a few countries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d1d3"/>
                </a:solidFill>
                <a:latin typeface="Lucida Sans Unicode"/>
                <a:ea typeface="MS PGothic"/>
              </a:rPr>
              <a:t>the United States, Japan and much of Europ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04920" y="44956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ever, most of the world population is still growing ______________.  Most of the world population is contributed to about 10 countries, with India and China in the lea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3808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4a10"/>
                </a:solidFill>
                <a:latin typeface="Lucida Sans Unicode"/>
                <a:ea typeface="MS PGothic"/>
              </a:rPr>
              <a:t>exponential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370px-Angola_population_pyramid_2005.svg.png"/>
          <p:cNvPicPr/>
          <p:nvPr/>
        </p:nvPicPr>
        <p:blipFill>
          <a:blip r:embed="rId1"/>
          <a:stretch/>
        </p:blipFill>
        <p:spPr>
          <a:xfrm>
            <a:off x="1295280" y="1447920"/>
            <a:ext cx="6586560" cy="3381120"/>
          </a:xfrm>
          <a:prstGeom prst="rect">
            <a:avLst/>
          </a:prstGeom>
          <a:ln w="0">
            <a:noFill/>
          </a:ln>
        </p:spPr>
      </p:pic>
      <p:grpSp>
        <p:nvGrpSpPr>
          <p:cNvPr id="409" name="TextBox 2"/>
          <p:cNvGrpSpPr/>
          <p:nvPr/>
        </p:nvGrpSpPr>
        <p:grpSpPr>
          <a:xfrm>
            <a:off x="596880" y="60480"/>
            <a:ext cx="8034480" cy="896760"/>
            <a:chOff x="596880" y="60480"/>
            <a:chExt cx="8034480" cy="896760"/>
          </a:xfrm>
        </p:grpSpPr>
        <p:pic>
          <p:nvPicPr>
            <p:cNvPr id="410" name="TextBox 2" descr=""/>
            <p:cNvPicPr/>
            <p:nvPr/>
          </p:nvPicPr>
          <p:blipFill>
            <a:blip r:embed="rId2"/>
            <a:stretch/>
          </p:blipFill>
          <p:spPr>
            <a:xfrm>
              <a:off x="596880" y="60480"/>
              <a:ext cx="80344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685800" y="15228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ucida Sans Unicode"/>
                </a:rPr>
                <a:t>Make 3 observations</a:t>
              </a:r>
              <a:endParaRPr b="0" lang="en-US" sz="4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2" name="Rectangle 3"/>
          <p:cNvSpPr/>
          <p:nvPr/>
        </p:nvSpPr>
        <p:spPr>
          <a:xfrm>
            <a:off x="0" y="5027760"/>
            <a:ext cx="4495680" cy="180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235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fa7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4572000" y="5067360"/>
            <a:ext cx="4572000" cy="1739880"/>
          </a:xfrm>
          <a:prstGeom prst="rect">
            <a:avLst/>
          </a:prstGeom>
          <a:solidFill>
            <a:srgbClr val="ffffff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future growth of a is predicted us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3eef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370px-Angola_population_pyramid_2005.svg.png"/>
          <p:cNvPicPr/>
          <p:nvPr/>
        </p:nvPicPr>
        <p:blipFill>
          <a:blip r:embed="rId1"/>
          <a:stretch/>
        </p:blipFill>
        <p:spPr>
          <a:xfrm>
            <a:off x="1295280" y="1447920"/>
            <a:ext cx="6586560" cy="3381120"/>
          </a:xfrm>
          <a:prstGeom prst="rect">
            <a:avLst/>
          </a:prstGeom>
          <a:ln w="0">
            <a:noFill/>
          </a:ln>
        </p:spPr>
      </p:pic>
      <p:grpSp>
        <p:nvGrpSpPr>
          <p:cNvPr id="415" name="TextBox 2"/>
          <p:cNvGrpSpPr/>
          <p:nvPr/>
        </p:nvGrpSpPr>
        <p:grpSpPr>
          <a:xfrm>
            <a:off x="596880" y="60480"/>
            <a:ext cx="8034480" cy="896760"/>
            <a:chOff x="596880" y="60480"/>
            <a:chExt cx="8034480" cy="896760"/>
          </a:xfrm>
        </p:grpSpPr>
        <p:pic>
          <p:nvPicPr>
            <p:cNvPr id="416" name="TextBox 2" descr=""/>
            <p:cNvPicPr/>
            <p:nvPr/>
          </p:nvPicPr>
          <p:blipFill>
            <a:blip r:embed="rId2"/>
            <a:stretch/>
          </p:blipFill>
          <p:spPr>
            <a:xfrm>
              <a:off x="596880" y="60480"/>
              <a:ext cx="80344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85800" y="15228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ucida Sans Unicode"/>
                </a:rPr>
                <a:t>Age-Structure Diagrams</a:t>
              </a:r>
              <a:endParaRPr b="0" lang="en-US" sz="4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8" name="Rectangle 3"/>
          <p:cNvSpPr/>
          <p:nvPr/>
        </p:nvSpPr>
        <p:spPr>
          <a:xfrm>
            <a:off x="0" y="5027760"/>
            <a:ext cx="4495680" cy="1800360"/>
          </a:xfrm>
          <a:prstGeom prst="rect">
            <a:avLst/>
          </a:prstGeom>
          <a:solidFill>
            <a:srgbClr val="474b78"/>
          </a:solidFill>
          <a:ln w="55080">
            <a:solidFill>
              <a:srgbClr val="3235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growth of a population depends o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fa7"/>
                </a:solidFill>
                <a:latin typeface="Lucida Sans Unicode"/>
              </a:rPr>
              <a:t>how many people make up the given population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4572000" y="5067360"/>
            <a:ext cx="4572000" cy="1739880"/>
          </a:xfrm>
          <a:prstGeom prst="rect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future growth of a population is predicted us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d3eef5"/>
                </a:solidFill>
                <a:latin typeface="Lucida Sans Unicode"/>
              </a:rPr>
              <a:t>age-structure diagrams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age structure 2.jpg"/>
          <p:cNvPicPr/>
          <p:nvPr/>
        </p:nvPicPr>
        <p:blipFill>
          <a:blip r:embed="rId1"/>
          <a:stretch/>
        </p:blipFill>
        <p:spPr>
          <a:xfrm>
            <a:off x="-15840" y="0"/>
            <a:ext cx="9058320" cy="48006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2"/>
          <p:cNvSpPr/>
          <p:nvPr/>
        </p:nvSpPr>
        <p:spPr>
          <a:xfrm>
            <a:off x="-152280" y="4800600"/>
            <a:ext cx="102106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3 observatio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age structure 2.jpg"/>
          <p:cNvPicPr/>
          <p:nvPr/>
        </p:nvPicPr>
        <p:blipFill>
          <a:blip r:embed="rId1"/>
          <a:stretch/>
        </p:blipFill>
        <p:spPr>
          <a:xfrm>
            <a:off x="-15840" y="0"/>
            <a:ext cx="9058320" cy="48006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2"/>
          <p:cNvSpPr/>
          <p:nvPr/>
        </p:nvSpPr>
        <p:spPr>
          <a:xfrm>
            <a:off x="304920" y="5257800"/>
            <a:ext cx="8534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“age-structure diagram” show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population of a country broken down by gender and age group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5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7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8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9" name="Text Box 7"/>
            <p:cNvSpPr/>
            <p:nvPr/>
          </p:nvSpPr>
          <p:spPr>
            <a:xfrm>
              <a:off x="2339640" y="5158080"/>
              <a:ext cx="37717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0" name="Text Box 9"/>
            <p:cNvSpPr/>
            <p:nvPr/>
          </p:nvSpPr>
          <p:spPr>
            <a:xfrm>
              <a:off x="2781360" y="3981600"/>
              <a:ext cx="28191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2360880" y="2014920"/>
              <a:ext cx="38545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3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5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7" name="Text Box 7"/>
            <p:cNvSpPr/>
            <p:nvPr/>
          </p:nvSpPr>
          <p:spPr>
            <a:xfrm>
              <a:off x="2339640" y="5158080"/>
              <a:ext cx="3771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E-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8" name="Text Box 9"/>
            <p:cNvSpPr/>
            <p:nvPr/>
          </p:nvSpPr>
          <p:spPr>
            <a:xfrm>
              <a:off x="2781360" y="3981600"/>
              <a:ext cx="28191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2360880" y="2014920"/>
              <a:ext cx="38545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1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5" name="Text Box 7"/>
            <p:cNvSpPr/>
            <p:nvPr/>
          </p:nvSpPr>
          <p:spPr>
            <a:xfrm>
              <a:off x="2339640" y="5158080"/>
              <a:ext cx="3771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E-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2781360" y="3981600"/>
              <a:ext cx="2819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7" name="Text Box 11"/>
            <p:cNvSpPr/>
            <p:nvPr/>
          </p:nvSpPr>
          <p:spPr>
            <a:xfrm>
              <a:off x="2360880" y="2014920"/>
              <a:ext cx="38545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9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1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2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3" name="Text Box 7"/>
            <p:cNvSpPr/>
            <p:nvPr/>
          </p:nvSpPr>
          <p:spPr>
            <a:xfrm>
              <a:off x="2339640" y="5158080"/>
              <a:ext cx="3771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E-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4" name="Text Box 9"/>
            <p:cNvSpPr/>
            <p:nvPr/>
          </p:nvSpPr>
          <p:spPr>
            <a:xfrm>
              <a:off x="2781360" y="3981600"/>
              <a:ext cx="2819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5" name="Text Box 11"/>
            <p:cNvSpPr/>
            <p:nvPr/>
          </p:nvSpPr>
          <p:spPr>
            <a:xfrm>
              <a:off x="2360880" y="2014920"/>
              <a:ext cx="3854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OST-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MC900434385.WMF"/>
          <p:cNvPicPr/>
          <p:nvPr/>
        </p:nvPicPr>
        <p:blipFill>
          <a:blip r:embed="rId1"/>
          <a:stretch/>
        </p:blipFill>
        <p:spPr>
          <a:xfrm>
            <a:off x="380880" y="2209680"/>
            <a:ext cx="2946600" cy="2675160"/>
          </a:xfrm>
          <a:prstGeom prst="rect">
            <a:avLst/>
          </a:prstGeom>
          <a:ln w="0">
            <a:noFill/>
          </a:ln>
        </p:spPr>
      </p:pic>
      <p:grpSp>
        <p:nvGrpSpPr>
          <p:cNvPr id="382" name="Rectangle 2"/>
          <p:cNvGrpSpPr/>
          <p:nvPr/>
        </p:nvGrpSpPr>
        <p:grpSpPr>
          <a:xfrm>
            <a:off x="542880" y="244440"/>
            <a:ext cx="7935840" cy="1279440"/>
            <a:chOff x="542880" y="244440"/>
            <a:chExt cx="7935840" cy="1279440"/>
          </a:xfrm>
        </p:grpSpPr>
        <p:pic>
          <p:nvPicPr>
            <p:cNvPr id="383" name="Rectangle 2" descr=""/>
            <p:cNvPicPr/>
            <p:nvPr/>
          </p:nvPicPr>
          <p:blipFill>
            <a:blip r:embed="rId2"/>
            <a:stretch/>
          </p:blipFill>
          <p:spPr>
            <a:xfrm>
              <a:off x="542880" y="244440"/>
              <a:ext cx="79358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24960" y="380880"/>
              <a:ext cx="78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Lucida Sans Unicode"/>
                </a:rPr>
                <a:t>Human Population Growth</a:t>
              </a:r>
              <a:r>
                <a:rPr b="0" lang="en-US" sz="4400" spc="-1" strike="noStrike">
                  <a:solidFill>
                    <a:srgbClr val="ffffff"/>
                  </a:solidFill>
                  <a:latin typeface="Lucida Sans Unicode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85" name="Rectangle 3"/>
          <p:cNvSpPr/>
          <p:nvPr/>
        </p:nvSpPr>
        <p:spPr>
          <a:xfrm>
            <a:off x="3657600" y="1523880"/>
            <a:ext cx="5105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For most of human existence, the population grew very slowly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Limiting factors that kept the human population low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 Unicode"/>
                <a:ea typeface="MS PGothic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  <a:ea typeface="MS PGothic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  <a:ea typeface="MS PGothic"/>
              </a:rPr>
              <a:t>Food availabi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2.</a:t>
            </a: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Diseases were rampa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age structure 2.jpg"/>
          <p:cNvPicPr/>
          <p:nvPr/>
        </p:nvPicPr>
        <p:blipFill>
          <a:blip r:embed="rId1"/>
          <a:srcRect l="0" t="9529" r="0" b="0"/>
          <a:stretch/>
        </p:blipFill>
        <p:spPr>
          <a:xfrm>
            <a:off x="0" y="990720"/>
            <a:ext cx="9058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age structure 2.jpg"/>
          <p:cNvPicPr/>
          <p:nvPr/>
        </p:nvPicPr>
        <p:blipFill>
          <a:blip r:embed="rId1"/>
          <a:stretch/>
        </p:blipFill>
        <p:spPr>
          <a:xfrm>
            <a:off x="0" y="533520"/>
            <a:ext cx="905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1523880"/>
            <a:ext cx="447516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59" name="Rectangle 2"/>
          <p:cNvSpPr/>
          <p:nvPr/>
        </p:nvSpPr>
        <p:spPr>
          <a:xfrm>
            <a:off x="380880" y="152280"/>
            <a:ext cx="84582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 A and 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Make 3 observ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1523880"/>
            <a:ext cx="447516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61" name="Rectangle 2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761000" y="914400"/>
            <a:ext cx="407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many more _________ than ______ groups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In each higher age group, there are fewer and fewer individua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can reasonably be predicted that population A will experienc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______ growth in the fu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4952880" y="1303200"/>
            <a:ext cx="27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childr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7358040" y="1303200"/>
            <a:ext cx="15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old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4772160" y="5181480"/>
            <a:ext cx="271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Rap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838080"/>
            <a:ext cx="4910400" cy="4430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67" name="Rectangle 2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B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5334120" y="838080"/>
            <a:ext cx="3657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Lucida Sans Unicode"/>
              </a:rPr>
              <a:t>nearly equal numbers of individuals in each age group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can reasonably be predicted that population A will experienc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______ growth in the fu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TextBox 4"/>
          <p:cNvSpPr/>
          <p:nvPr/>
        </p:nvSpPr>
        <p:spPr>
          <a:xfrm>
            <a:off x="5334120" y="5030640"/>
            <a:ext cx="27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slow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57200" y="304920"/>
            <a:ext cx="8458200" cy="2531160"/>
          </a:xfrm>
          <a:prstGeom prst="rect">
            <a:avLst/>
          </a:prstGeom>
          <a:solidFill>
            <a:srgbClr val="39639d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About 500 years ago, the human population began to grow at a staggering rate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What factors do you think effected growth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Intel HD:Users:a3smith:Desktop:human population.jpg"/>
          <p:cNvPicPr/>
          <p:nvPr/>
        </p:nvPicPr>
        <p:blipFill>
          <a:blip r:embed="rId1"/>
          <a:stretch/>
        </p:blipFill>
        <p:spPr>
          <a:xfrm>
            <a:off x="152280" y="1295280"/>
            <a:ext cx="4800600" cy="3810240"/>
          </a:xfrm>
          <a:prstGeom prst="rect">
            <a:avLst/>
          </a:prstGeom>
          <a:ln cap="sq" w="38160">
            <a:solidFill>
              <a:srgbClr val="1faecd"/>
            </a:solidFill>
            <a:miter/>
          </a:ln>
        </p:spPr>
      </p:pic>
      <p:sp>
        <p:nvSpPr>
          <p:cNvPr id="388" name="TextBox 2"/>
          <p:cNvSpPr/>
          <p:nvPr/>
        </p:nvSpPr>
        <p:spPr>
          <a:xfrm>
            <a:off x="60948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3 observations  about this grap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humpop_2"/>
          <p:cNvPicPr/>
          <p:nvPr/>
        </p:nvPicPr>
        <p:blipFill>
          <a:blip r:embed="rId1"/>
          <a:stretch/>
        </p:blipFill>
        <p:spPr>
          <a:xfrm>
            <a:off x="838080" y="609480"/>
            <a:ext cx="78487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Intel HD:Users:a3smith:Desktop:human population.jpg"/>
          <p:cNvPicPr/>
          <p:nvPr/>
        </p:nvPicPr>
        <p:blipFill>
          <a:blip r:embed="rId1"/>
          <a:stretch/>
        </p:blipFill>
        <p:spPr>
          <a:xfrm>
            <a:off x="152280" y="1295280"/>
            <a:ext cx="4800600" cy="3810240"/>
          </a:xfrm>
          <a:prstGeom prst="rect">
            <a:avLst/>
          </a:prstGeom>
          <a:ln cap="sq" w="38160">
            <a:solidFill>
              <a:srgbClr val="1faecd"/>
            </a:solidFill>
            <a:miter/>
          </a:ln>
        </p:spPr>
      </p:pic>
      <p:sp>
        <p:nvSpPr>
          <p:cNvPr id="391" name="Rectangle 3"/>
          <p:cNvSpPr/>
          <p:nvPr/>
        </p:nvSpPr>
        <p:spPr>
          <a:xfrm>
            <a:off x="4957920" y="838080"/>
            <a:ext cx="3881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Agriculture and indust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Food is availabl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Goods can be shippe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Improved sanit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Death rate dropped while birth rate increased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28600" y="838080"/>
            <a:ext cx="8686800" cy="2104920"/>
          </a:xfrm>
          <a:prstGeom prst="rect">
            <a:avLst/>
          </a:prstGeom>
          <a:solidFill>
            <a:srgbClr val="39639d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What type of growth have humans experienced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carrying.png"/>
          <p:cNvPicPr/>
          <p:nvPr/>
        </p:nvPicPr>
        <p:blipFill>
          <a:blip r:embed="rId1"/>
          <a:stretch/>
        </p:blipFill>
        <p:spPr>
          <a:xfrm>
            <a:off x="152280" y="152280"/>
            <a:ext cx="3200400" cy="366408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3778200" y="914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xponential grow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3835440" y="1828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anno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228600" y="38862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The questions to be answered are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When will we reach the limit of these resources?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How large will the population get?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Will the planet be able to support this huge human populatio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191120" y="228600"/>
            <a:ext cx="4724280" cy="2775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Human population grows exponentiall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" descr="MC900078708.WMF"/>
          <p:cNvPicPr/>
          <p:nvPr/>
        </p:nvPicPr>
        <p:blipFill>
          <a:blip r:embed="rId1"/>
          <a:stretch/>
        </p:blipFill>
        <p:spPr>
          <a:xfrm>
            <a:off x="0" y="2438280"/>
            <a:ext cx="4551480" cy="42674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152280" y="3049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emography is the scientific study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67b"/>
                </a:solidFill>
                <a:latin typeface="Lucida Sans Unicode"/>
              </a:rPr>
              <a:t>of human populations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4876920" y="1600200"/>
            <a:ext cx="4114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171e"/>
                </a:solidFill>
                <a:latin typeface="Lucida Sans Unicode"/>
              </a:rPr>
              <a:t>Some countries today have a much higher growth rate than other countries. 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171e"/>
                </a:solidFill>
                <a:latin typeface="Lucida Sans Unicode"/>
              </a:rPr>
              <a:t>Birthrates, death rates, and the age structure of a population help predict why some countries have a higher growth rate than other countri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21:42:46Z</dcterms:created>
  <dc:creator>Roman-Wensing, Kayla</dc:creator>
  <dc:description/>
  <cp:keywords/>
  <dc:language>en-US</dc:language>
  <cp:lastModifiedBy>Roman-Wensing, Kayla</cp:lastModifiedBy>
  <dcterms:modified xsi:type="dcterms:W3CDTF">2018-05-06T19:56:48Z</dcterms:modified>
  <cp:revision>149</cp:revision>
  <dc:subject/>
  <dc:title>Population Ec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1600619991</vt:lpwstr>
  </property>
</Properties>
</file>